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9015-6954-4F55-ABEB-AA67ABFED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9EE8-F5BD-458F-AB2E-59875508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E9D3-5413-40A7-BC16-4D842DCFD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52BA-D390-4808-8C7F-759A5A41E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0D7E-08F4-4F57-ADB2-F4A8C8D9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7BCE-D0EC-4F65-A503-DEAFB191A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6BF4-A78C-4D34-80FB-466462ED6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DB03-E8BD-40EC-9137-9AD3A425C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5539-DF37-4394-A0D0-583957284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1709-CC4E-4841-9D3F-AE1638FF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41AA-BE4C-459A-AE99-80F70A7D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C6F9-A35E-4720-BF83-5D48AEBE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1D02-2D9F-4B49-ABDC-A8B3B82A90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69 Čoskoro sa Pá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nám vrát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skoro sa Pán k nám vrá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vesť tá celým svetom znie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aždé zlo sa navždy strat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mútok bolesť pomi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už príde, v sláve príd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žehnaný mieru Krá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by nás ta, k sebe vz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Pán zomre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em sa chvel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lnko skrylo lúčov ja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stal však z mŕtvyc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ra smel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dí už zem večných kr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už príde, v sláve príd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žehnaný mieru Krá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by nás ta, k sebe vz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ilosti kým slnko zájd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silovne pracuj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lahoslavenú tú nád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etkým ľuďom zvestuj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už príde, v sláve príd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žehnaný mieru Krá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by nás ta, k sebe vzal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2-12T15:40:34Z</dcterms:modified>
  <cp:revision>37</cp:revision>
  <dc:subject/>
  <dc:title>Je veľký náš Pán, on slávy je Kráľ Nech do všetkých strán  spev vrúcnych znie chvál.</dc:title>
</cp:coreProperties>
</file>